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E5B8-000F-450E-86D6-5749946C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3378-7085-4F42-B65C-F9105035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A91FD-1578-4401-9105-F45DD855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D9F7F-B062-48FE-B4B0-0184D4A6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782F8-2239-429A-92AA-87257FF4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058E2-43EF-4985-9935-9AC0E15C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697E2-C8C8-4D34-A40C-B63FBBA3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F35AE-EB91-454A-91C8-6D210805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11AC2-0884-45EB-AC54-9B0AE182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89F1C-ECC0-454B-BD28-6709A6CD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67BBF-2CF2-4C44-A5B1-D57F3B74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21097-9A1B-40E6-B429-846E9063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E125-5B4E-4333-80AC-EEC7005A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57F66-74FF-4AC2-AE47-B0F8249E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24C02-E50B-45FB-B4AA-A7ED4AE6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28356-40B7-4D7E-84E2-63D806E6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7445C-3A9B-4517-BBBA-D2083618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470DF-DA6F-4D43-9E7B-7E0A762C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88F80-F839-4AC4-B039-EF5CCDF0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D6A2C-C143-4D80-B079-4819C9F8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8F180-5646-4EE7-8EED-D98600DC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F7BB0-ED17-46F5-9FAC-42AC9906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2A44A-0723-4729-9B29-14383E7C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4913-CC64-467D-A259-42A6BD5E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EF6FF-0072-411F-AD1F-F80D7EA0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CE013-1E72-4D25-86F4-55002F4A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67BD4-AC9C-43DA-B57F-15A5F325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89EB3-259F-465D-A55A-5A1721AD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53C46-E91B-4849-97A0-4ACF4EBF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C2DC7-4F14-44C6-BF84-1D075466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E87AA-49D0-4D54-B7C7-CD66D3CD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63482-6775-4F1A-BFF7-0F22A5CF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13A1F-4C0E-4C3F-B4E6-A6B819E7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22952-CBD4-437D-AF45-406789AE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C256-6C9E-44F1-B4DB-4C86D2B4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EB1FC-C0DF-46DC-B6B4-7B4764E0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6FEBC-A1FF-41D6-BFA0-0D1A97A0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4D394-833C-477C-A5E4-18265BEB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B4576-36A4-433F-A6A2-23D1AE94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2C5DB-52DE-4915-9CA3-FECC0D7F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2BEA2-DCAF-4778-860C-56BA6F1A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BE391-E884-41F0-B579-77C7E040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54815-047C-411E-A53D-93BB8501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22D76-A4EC-4A07-8814-8415403B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DC982-A2BB-4B2D-BD0E-C9282CFC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5082-855E-449B-9B39-1E3CBA44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5BC95-56D3-4759-B868-36C6ABD7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07F6F-2781-4BCF-9272-0EC15852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6AF5F-7ED4-43F2-AE8C-1F50801C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C9619-F246-4B62-BFCF-AA842296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8657B-A16D-4E9A-998F-D73B6EDC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3D1D11-2223-4F38-8E8C-6CBC3122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E450F8-DC40-4718-98AB-3B49FAD9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D4BF52-99F3-4AC8-B3D1-43DA5181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30B295-DD80-4EFE-A4CA-28AA9CB5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85C6B7-BD74-4761-97D8-E9E62FF2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3A72-0CE4-4361-AF32-EB46D2C8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40D958-3A7B-41BF-93D2-926A3A99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2F89A1-D813-4A65-957B-986D8792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56072-74D0-47D9-9E3B-8D61B787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F848CA-B29B-4DCC-B4FB-9274A630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18A355-8735-4D84-B7C4-EAE42EDD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4FE8A7-E72C-41CF-9A54-26D37AFE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5EF24F-3F24-476D-879A-88D0F1AC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84E4B0-9A0D-486B-B972-1796091E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454C1B-D61F-4B3B-A04B-915DE977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9967AB-6515-4FCC-9E51-412AC962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4742-31B2-415D-96FB-6B4CB493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77D062-D957-433F-B044-DE09A0AB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F12CF4-98C0-4E3C-AB69-9F14B1A7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0C55AA-B2F6-48BD-8FC0-F2AFB604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684427-0B15-4D8A-ACED-DFDF7E39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65A9D3-5C4B-4E93-A08F-FF3E00F9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88190D-F167-4278-BDCA-FDE1116B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4BE06A-3560-426C-953F-F9881DDB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115F7D-5667-4EA4-95ED-98FD2806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EF5544-D181-43C4-A07B-DD6C535C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6B1F5E-0B26-48F8-AAD4-29029C7C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A634-1517-46B0-94B3-AC6EBAE8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C14C11-36BB-4F1C-B749-359C34FD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5E5473-D06F-45F4-A72D-CD4F6722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B3DD6B-D94A-4BAE-BE64-D8639605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EEEF37-0A22-46B0-88A9-A0E43F9B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5B3A7C-056A-4E43-B49E-C447FDE8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2755F0-0736-4869-AB44-46A18A99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77974F-1541-48F2-BE9D-2A6A526D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2AC1FF-2276-4143-981A-CBA7A01A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6441DA-EB5D-41E6-867A-4266D71F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447BC1-AFD7-4E7D-9825-6261247C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F077-34A2-476F-95F4-BE628A08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E75A33-FA71-4DE4-842B-58820501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379309-7411-408F-A44D-6389B826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3D816A-D796-4FC8-BA68-CB6D2B26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851D10-59AD-4E57-BB67-538B8A47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E5279C-DA22-4B3A-8D08-D037C1C3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A0F397-FD53-44DD-B0CA-039F9103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3877B9-60C5-460B-8F5F-B570FD08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90469D-66B4-4C48-A059-9CEE2CF8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F828F5-12AF-4C59-8769-24987DFF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BED673-C92F-40BD-99A8-B94756DF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F1EF-E3A9-4D3B-97E3-1F6C5988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D3C0F2-E951-4695-AA45-A05EEC88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921B1A-ACE5-4FAE-B153-B9FFD95D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DB4F9F-C1ED-4A9C-A63F-F466E52F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E64388-0C01-4EEC-9908-DD33CCA5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227632-442E-4B2B-A27A-06AF14FA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6F0F43-0B23-4D81-9FD1-12FA82B1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BA7CA3-131E-4A74-961A-C0854760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C0267C-AF7C-4E80-A013-4DA3DC62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BD544A-D5AF-4061-A62F-651AA5D4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92852C-D1EE-4F0E-B7D5-AB557939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08C3-8FD7-436A-A2E5-6AB28D3A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A702-3A1B-486E-BE99-09387993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808108-A662-4415-BCC5-8021B71B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5A3198-A924-44C0-993E-4A26D59E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47634C-9C53-4A95-814E-B58A3CC7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D57D67-EDE6-4E61-AA5A-1B86F816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EEB9C8-86FF-4C27-9660-2F621168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9468E7-8A0B-48DC-BAAF-29CBF99F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5B36D7-0201-47A8-8EB3-1AB6A793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7A2505-2C8C-4DE0-AE44-208EAE06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4AC8D9-7540-4859-865F-C5EFF04D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9A689A-D3A4-436E-817B-9D72284A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B93D-29BE-493A-9CC7-D95597EA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0F3C2D-A2A4-480F-87BD-3590A3D4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ABDA54-8260-49D1-B437-FA77A7A1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2D77A2-1EE0-4784-A160-4AC47849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E34D66-9E5C-4312-B2FB-A4C14F3A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DEF7E3-391D-4CD6-8659-D25BCB0B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90620E-780D-4D98-A954-BF672777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7CA04D-A012-4880-B749-717CA775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A9BC9E-879D-48F2-A9AE-2B3E448E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9C338B-85F2-444B-9E65-812804E5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35687A-1A7B-48E3-8352-2C7F8422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6A58-1BD4-4CEB-BD2F-6AD13A8A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A02616-515B-42D3-B49C-A342CCED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3E0907-DC96-4A3A-9D1D-C617E995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8DD7BC-E57D-4972-8366-5EA27482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200F1A-DDEC-442E-9012-AE4031E0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B2930C-4430-4294-AC48-4F6CA435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0BF5C7-989E-4174-B453-8203739C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17BB0F-4ED1-4113-B80D-73E8F020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5EA3E1-89A6-44A9-BC57-7FA0A859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583526-A3EA-4609-BF57-6270E68A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AA1C75-A2A4-4AD5-B1E2-B0FECC266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C3C4-DA96-4D06-8867-D51790F3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7C83A8-A0E3-4998-B32F-1371712C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DACA4D-A10A-401D-B468-E08BD5BA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508881-8E1E-47CB-B587-A984FC1F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D7695E-7878-4485-AEC5-07221A8A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DC3565-E926-416C-ABCE-E54BDBD9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8B7EC1-894E-4DC7-86FF-7CA6633A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F5456A-A9B3-4104-8F65-FA340FBF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771EB3-12FA-4EBE-B418-58389681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1C32F1-16E5-477B-BA42-12BA51F8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E3F0D6-524B-49E1-A1F8-D2118B88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F96D-749F-4DA9-9BDB-424CC61F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72FA83-9EFF-4271-A53C-54C4B2E9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42FBAF-7F44-4647-809C-30A254CA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11DFCF-C51A-4655-BD94-9ABEE7CA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3910EE-BCC1-47D2-B742-E724366B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A120F4-9420-4789-8F26-FA437C35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115A85-C458-498A-8769-20CD9D5A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E09868-6D84-4D76-BF42-42897C21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18EE44-14C7-4140-8FA7-311FAD56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9CA6A4-66EE-4844-8C3F-68030C62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195CFA-6994-4B51-858B-4B476D13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C69E1-D411-4FB0-9769-A44E90FC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9E46F4-CAB9-4D6E-A816-E9954175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0D5624-238C-4F20-9BC2-99D796C4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03D313-8A08-4B79-B208-AAAEC614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9A1C8-32C0-4CF5-8562-8B615785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9B13C-9E04-421E-BFDB-18A41B20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966D4-1897-495B-BF9C-4767D2A3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28AF3-3586-4C60-BC05-099206DE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7D51-CA0A-46FE-81C5-23734581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8B603-7170-4A0F-8B6A-6EBB606F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95A99-8A31-4050-A0F8-A586797F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30ACE-F53C-420E-8A98-2A0D07AE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05E31-C635-403F-BA22-848C44E7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DDAEE-D6C6-4435-ABC7-9EA39EE9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325A6-70EC-4B99-A136-22983CCD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0B4B6-8B54-4927-8F48-FF2726AA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11880-F810-4C15-9F14-054D9BA8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DE206-1EF8-4DA2-A2DE-A4F74ECA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6361B-313F-4C73-A2DC-3A4E9BB6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2F44-CB05-44D0-B5CB-EFA41330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8FD03-8692-4B42-B97D-5050D4E3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C1161-E1CB-40AF-9D3D-05B8063A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822CA-7C06-409B-8676-65EC3D1F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F3F0C-6CE7-4CAB-B492-94E04AF7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4B590-0E83-408A-B982-CE53A551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033E8-A03C-4D51-A441-05E6C974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AAD9E-EC90-49B6-8E43-FCF8C9A5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F5FD6-6A20-49CB-BEF6-DAB38D54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7AB4C-C312-4CF7-8C6F-1591329D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D4631-D9AB-4D9B-AF61-5571C53B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95B9-9E5C-4F50-BC60-2A7A05FF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78FED-D3DA-404E-9BDB-E140066D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0BAED-ADDB-43F1-87B3-0F90AF79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06BB6-139E-4F01-96BC-F73FFF03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FDB29-9C9D-4938-8079-2C11D5AB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33B91-AFB3-49B7-AAF1-07367A9F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FC92C-E9EB-45C3-927C-347D06BE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8EB36-66E2-4862-9533-A01A11B5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21EE2-2E75-40E6-983F-DC2097F2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3ADF7-BA67-4F67-AB92-6B9E0FF2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F3268-2E31-4D12-A68D-092FDD68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61C9-0C11-4AA8-A5A9-2DB483A3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316C5-5EB4-4558-A90F-CF52D2BF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F4CCD-7F1D-4F33-B4CB-16673B1A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E0F21-0512-4157-8E2D-042449A0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A2C0B-8DDD-42C8-81FF-EC4EFF23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835B2-58B0-47F1-BC1D-0C364DB6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1F7B2-96C1-4675-9BBD-E73CC1D5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07B46-E384-4AC2-A62D-5CB16299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DC498-1AA4-47F0-B284-1CFF5D95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E8638-711E-4313-94A2-95FDD94C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01F5C-8436-4107-8934-E87AC019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B542-45CB-42C1-A1AF-9F5E9B26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7C73F-30E9-4B60-9A23-E4BF857A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6B9C4-508A-4204-A81D-3D92B932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142CB-31CC-496F-879F-C793D244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9DE0C-C917-49C6-B492-DDFD8CD7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F8A4E-8E6C-4252-8C44-D0076E4B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2C429-CC93-4DDF-B8FE-A981850B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1C7F2-F41E-4845-A897-9A61D40B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6C999-DCFF-445D-B8A9-D70DD587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8B476-5EC1-4B71-8593-2EDDA1F1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B216B-84BE-48B1-8A3E-4130701A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A169-4114-472F-8FB7-F31869FF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2F220-981E-48FC-AB08-B3C882A9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91502-C4FB-43A4-8A29-E434B9FE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B8AD5-2FF1-44EF-A4E4-DC53B124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30A03-EC8B-4971-901F-421F4D41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D4A32-4DF8-453B-80C7-3419A8AE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26142-8215-4A07-BFED-D098903A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3D463-3EAA-49F9-9C65-EFB413F0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D6529-277A-4EE3-AB0D-4D38A2C8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128B0-C44E-4516-A6FB-EBEEE2E8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7AA6F-C64E-4388-BDBC-234A38DB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B9B2-1837-42F8-897D-2E5512E9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644C2-7FF1-4A2A-895E-8EBEA9E6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B7666-065C-4C54-948D-CF7CB45B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482D9-E673-44BF-BAD7-881F56A2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67CF0-72AE-42FA-B116-FC48E193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496BD-C106-4671-92C1-FC9F1890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BF1AF-15C7-41ED-9DFE-C72A1785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6D82C-F9FB-4D03-B794-61FFB5C2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31830-A774-4B8F-B076-C06A23F4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57C91-BA97-41D3-BEB0-9D069015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ED4A3-0F7F-40C1-8556-CC60E7C8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F255-0D23-4D58-9638-4E152E283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6509-D0D8-40AC-9C0E-8844D478B9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33F5-2CFF-46EC-930D-AF7CB27AC1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20CB-B86B-4538-9CA3-3605CC29EC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F469-D1BD-455C-B58C-EEC1DC8FC3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7E63-E023-48E4-9DA0-D5B3B3B038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46AB-9101-4F21-9EA5-B44F6A64B1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F9D4-2553-4C53-9BB6-9941E508A5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595D-67E2-4BEE-B155-EF81E646FD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E4C8-D97F-4CFF-B890-C4672675FB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4C5B-793C-405D-B8F9-15F1891732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F4BD-DC34-421C-8178-2017B18C0D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215B-1224-4C7A-B9E4-3ABC927FD0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809B-8C5B-4ED0-BCA5-D1E06EC149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A494-9739-4F0E-A037-9B4EBAEC91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4C3D-6411-4CA1-89AD-C6B7B98EFE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C046-3274-456B-8FED-36E67DF55B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993B-FAE3-4F32-8234-E6F810C6E8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4246-15CA-457D-AE7E-1FD4CB26D2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4C4A-6CC3-4A9D-BB34-99E7D7605F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205D-4420-459C-B8CE-E2ABFFE4C4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3510-FCDC-44B1-BDE7-6BDED1C3A5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6BF8-71C7-4E66-B95C-60315A823A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A7AC-A7BA-47FB-AE79-1239FD47E6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158C-61B2-43B3-8683-8BD2EE6F0B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76B2-D6DF-4BB0-A036-EA1F19B32D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54C4-39F6-485E-89E7-ED1CB07C91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328B-BB3A-4D68-A3F7-FD98B54DC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4944-692F-46A6-AE7B-A09B23CBF9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98C5-16F8-41D4-96D2-F441EA6342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B416-3191-4653-BE2F-7C9B20D6D5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ACAE-3B3D-438B-A966-B80CE000D7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6222-52BE-40F5-B570-1ED33F319C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5108-7A81-4103-8422-D0A9D5A4B6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D09C-FBB1-4137-A641-2A5C20B197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6124-73C1-4F0E-868A-2D963900FC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6443-0256-45F9-9764-62A33E23A6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0CF1-2746-41F6-9817-CFB21344E4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6CFB-ACC9-478E-B909-8CD6733D55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19F5-0AE0-49FE-8A38-CCB3F26A1B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1109520" y="3119400"/>
            <a:ext cx="6924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450720" y="712800"/>
            <a:ext cx="8182080" cy="6019920"/>
          </a:xfrm>
          <a:prstGeom prst="rect">
            <a:avLst/>
          </a:prstGeom>
          <a:ln w="9360">
            <a:solidFill>
              <a:srgbClr val="7481a8"/>
            </a:solidFill>
            <a:miter/>
          </a:ln>
        </p:spPr>
      </p:pic>
      <p:sp>
        <p:nvSpPr>
          <p:cNvPr id="1024" name="矩形 2"/>
          <p:cNvSpPr/>
          <p:nvPr/>
        </p:nvSpPr>
        <p:spPr>
          <a:xfrm>
            <a:off x="928800" y="250020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928800" y="47149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2" descr=""/>
          <p:cNvPicPr/>
          <p:nvPr/>
        </p:nvPicPr>
        <p:blipFill>
          <a:blip r:embed="rId1"/>
          <a:stretch/>
        </p:blipFill>
        <p:spPr>
          <a:xfrm>
            <a:off x="407880" y="808200"/>
            <a:ext cx="8305920" cy="5448240"/>
          </a:xfrm>
          <a:prstGeom prst="rect">
            <a:avLst/>
          </a:prstGeom>
          <a:ln w="0">
            <a:noFill/>
          </a:ln>
        </p:spPr>
      </p:pic>
      <p:sp>
        <p:nvSpPr>
          <p:cNvPr id="1027" name="矩形 2"/>
          <p:cNvSpPr/>
          <p:nvPr/>
        </p:nvSpPr>
        <p:spPr>
          <a:xfrm>
            <a:off x="928800" y="9288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3"/>
          <p:cNvSpPr/>
          <p:nvPr/>
        </p:nvSpPr>
        <p:spPr>
          <a:xfrm>
            <a:off x="857160" y="31431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4"/>
          <p:cNvSpPr/>
          <p:nvPr/>
        </p:nvSpPr>
        <p:spPr>
          <a:xfrm>
            <a:off x="857160" y="47149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8219880" cy="27907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2"/>
          <a:stretch/>
        </p:blipFill>
        <p:spPr>
          <a:xfrm>
            <a:off x="857160" y="3929040"/>
            <a:ext cx="8048880" cy="1019160"/>
          </a:xfrm>
          <a:prstGeom prst="rect">
            <a:avLst/>
          </a:prstGeom>
          <a:ln w="0">
            <a:noFill/>
          </a:ln>
        </p:spPr>
      </p:pic>
      <p:sp>
        <p:nvSpPr>
          <p:cNvPr id="1032" name="矩形 3"/>
          <p:cNvSpPr/>
          <p:nvPr/>
        </p:nvSpPr>
        <p:spPr>
          <a:xfrm>
            <a:off x="1500120" y="2286000"/>
            <a:ext cx="10000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4"/>
          <p:cNvSpPr/>
          <p:nvPr/>
        </p:nvSpPr>
        <p:spPr>
          <a:xfrm>
            <a:off x="3000240" y="2286000"/>
            <a:ext cx="192888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5"/>
          <p:cNvSpPr/>
          <p:nvPr/>
        </p:nvSpPr>
        <p:spPr>
          <a:xfrm>
            <a:off x="6500880" y="2286000"/>
            <a:ext cx="928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"/>
          <p:cNvSpPr/>
          <p:nvPr/>
        </p:nvSpPr>
        <p:spPr>
          <a:xfrm>
            <a:off x="7643880" y="228600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7"/>
          <p:cNvSpPr/>
          <p:nvPr/>
        </p:nvSpPr>
        <p:spPr>
          <a:xfrm>
            <a:off x="6000840" y="4000680"/>
            <a:ext cx="13572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8"/>
          <p:cNvSpPr/>
          <p:nvPr/>
        </p:nvSpPr>
        <p:spPr>
          <a:xfrm>
            <a:off x="7858080" y="4000680"/>
            <a:ext cx="7146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214200" y="714240"/>
            <a:ext cx="5114880" cy="21621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2"/>
          <a:stretch/>
        </p:blipFill>
        <p:spPr>
          <a:xfrm>
            <a:off x="5929200" y="642960"/>
            <a:ext cx="2914920" cy="21528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5" descr=""/>
          <p:cNvPicPr/>
          <p:nvPr/>
        </p:nvPicPr>
        <p:blipFill>
          <a:blip r:embed="rId3"/>
          <a:stretch/>
        </p:blipFill>
        <p:spPr>
          <a:xfrm>
            <a:off x="214200" y="3143160"/>
            <a:ext cx="8163000" cy="3133800"/>
          </a:xfrm>
          <a:prstGeom prst="rect">
            <a:avLst/>
          </a:prstGeom>
          <a:ln w="0">
            <a:noFill/>
          </a:ln>
        </p:spPr>
      </p:pic>
      <p:sp>
        <p:nvSpPr>
          <p:cNvPr id="1041" name="矩形 4"/>
          <p:cNvSpPr/>
          <p:nvPr/>
        </p:nvSpPr>
        <p:spPr>
          <a:xfrm>
            <a:off x="1500120" y="1928880"/>
            <a:ext cx="10000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5"/>
          <p:cNvSpPr/>
          <p:nvPr/>
        </p:nvSpPr>
        <p:spPr>
          <a:xfrm>
            <a:off x="3071880" y="1928880"/>
            <a:ext cx="7858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6"/>
          <p:cNvSpPr/>
          <p:nvPr/>
        </p:nvSpPr>
        <p:spPr>
          <a:xfrm>
            <a:off x="714240" y="3643200"/>
            <a:ext cx="14288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7"/>
          <p:cNvSpPr/>
          <p:nvPr/>
        </p:nvSpPr>
        <p:spPr>
          <a:xfrm>
            <a:off x="2643120" y="3643200"/>
            <a:ext cx="7146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"/>
          <p:cNvSpPr/>
          <p:nvPr/>
        </p:nvSpPr>
        <p:spPr>
          <a:xfrm>
            <a:off x="785880" y="4214880"/>
            <a:ext cx="1643040" cy="379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9"/>
          <p:cNvSpPr/>
          <p:nvPr/>
        </p:nvSpPr>
        <p:spPr>
          <a:xfrm>
            <a:off x="2786040" y="4214880"/>
            <a:ext cx="10000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10"/>
          <p:cNvSpPr/>
          <p:nvPr/>
        </p:nvSpPr>
        <p:spPr>
          <a:xfrm>
            <a:off x="2286000" y="5286240"/>
            <a:ext cx="10000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11"/>
          <p:cNvSpPr/>
          <p:nvPr/>
        </p:nvSpPr>
        <p:spPr>
          <a:xfrm>
            <a:off x="3714840" y="5286240"/>
            <a:ext cx="10000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12"/>
          <p:cNvSpPr/>
          <p:nvPr/>
        </p:nvSpPr>
        <p:spPr>
          <a:xfrm>
            <a:off x="5072040" y="5286240"/>
            <a:ext cx="10000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13"/>
          <p:cNvSpPr/>
          <p:nvPr/>
        </p:nvSpPr>
        <p:spPr>
          <a:xfrm>
            <a:off x="6286680" y="5286240"/>
            <a:ext cx="10000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2" descr=""/>
          <p:cNvPicPr/>
          <p:nvPr/>
        </p:nvPicPr>
        <p:blipFill>
          <a:blip r:embed="rId1"/>
          <a:stretch/>
        </p:blipFill>
        <p:spPr>
          <a:xfrm>
            <a:off x="500040" y="1000080"/>
            <a:ext cx="8201160" cy="5343480"/>
          </a:xfrm>
          <a:prstGeom prst="rect">
            <a:avLst/>
          </a:prstGeom>
          <a:ln w="0">
            <a:noFill/>
          </a:ln>
        </p:spPr>
      </p:pic>
      <p:sp>
        <p:nvSpPr>
          <p:cNvPr id="1052" name="矩形 2"/>
          <p:cNvSpPr/>
          <p:nvPr/>
        </p:nvSpPr>
        <p:spPr>
          <a:xfrm>
            <a:off x="5000760" y="1571760"/>
            <a:ext cx="14284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3"/>
          <p:cNvSpPr/>
          <p:nvPr/>
        </p:nvSpPr>
        <p:spPr>
          <a:xfrm>
            <a:off x="1214280" y="2643120"/>
            <a:ext cx="10004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4"/>
          <p:cNvSpPr/>
          <p:nvPr/>
        </p:nvSpPr>
        <p:spPr>
          <a:xfrm>
            <a:off x="4000680" y="3143160"/>
            <a:ext cx="17856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5"/>
          <p:cNvSpPr/>
          <p:nvPr/>
        </p:nvSpPr>
        <p:spPr>
          <a:xfrm>
            <a:off x="3728880" y="4240080"/>
            <a:ext cx="1557360" cy="4003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6"/>
          <p:cNvSpPr/>
          <p:nvPr/>
        </p:nvSpPr>
        <p:spPr>
          <a:xfrm>
            <a:off x="6143760" y="5357880"/>
            <a:ext cx="12142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2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8201160" cy="5705640"/>
          </a:xfrm>
          <a:prstGeom prst="rect">
            <a:avLst/>
          </a:prstGeom>
          <a:ln w="0">
            <a:noFill/>
          </a:ln>
        </p:spPr>
      </p:pic>
      <p:sp>
        <p:nvSpPr>
          <p:cNvPr id="1058" name="矩形 2"/>
          <p:cNvSpPr/>
          <p:nvPr/>
        </p:nvSpPr>
        <p:spPr>
          <a:xfrm>
            <a:off x="2857680" y="5500800"/>
            <a:ext cx="10000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3"/>
          <p:cNvSpPr/>
          <p:nvPr/>
        </p:nvSpPr>
        <p:spPr>
          <a:xfrm>
            <a:off x="3071880" y="6072120"/>
            <a:ext cx="12142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Picture 2" descr=""/>
          <p:cNvPicPr/>
          <p:nvPr/>
        </p:nvPicPr>
        <p:blipFill>
          <a:blip r:embed="rId1"/>
          <a:stretch/>
        </p:blipFill>
        <p:spPr>
          <a:xfrm>
            <a:off x="466560" y="995400"/>
            <a:ext cx="8210880" cy="4867200"/>
          </a:xfrm>
          <a:prstGeom prst="rect">
            <a:avLst/>
          </a:prstGeom>
          <a:ln w="0">
            <a:noFill/>
          </a:ln>
        </p:spPr>
      </p:pic>
      <p:sp>
        <p:nvSpPr>
          <p:cNvPr id="1061" name="矩形 2"/>
          <p:cNvSpPr/>
          <p:nvPr/>
        </p:nvSpPr>
        <p:spPr>
          <a:xfrm>
            <a:off x="7143840" y="1000080"/>
            <a:ext cx="1143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3"/>
          <p:cNvSpPr/>
          <p:nvPr/>
        </p:nvSpPr>
        <p:spPr>
          <a:xfrm>
            <a:off x="6500880" y="1571760"/>
            <a:ext cx="100008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4"/>
          <p:cNvSpPr/>
          <p:nvPr/>
        </p:nvSpPr>
        <p:spPr>
          <a:xfrm>
            <a:off x="2428920" y="2131920"/>
            <a:ext cx="6922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5"/>
          <p:cNvSpPr/>
          <p:nvPr/>
        </p:nvSpPr>
        <p:spPr>
          <a:xfrm>
            <a:off x="5286240" y="3214800"/>
            <a:ext cx="1143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6"/>
          <p:cNvSpPr/>
          <p:nvPr/>
        </p:nvSpPr>
        <p:spPr>
          <a:xfrm>
            <a:off x="6500880" y="3714840"/>
            <a:ext cx="128592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7"/>
          <p:cNvSpPr/>
          <p:nvPr/>
        </p:nvSpPr>
        <p:spPr>
          <a:xfrm>
            <a:off x="5715000" y="4286160"/>
            <a:ext cx="178596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8"/>
          <p:cNvSpPr/>
          <p:nvPr/>
        </p:nvSpPr>
        <p:spPr>
          <a:xfrm>
            <a:off x="3643200" y="4786200"/>
            <a:ext cx="100008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9"/>
          <p:cNvSpPr/>
          <p:nvPr/>
        </p:nvSpPr>
        <p:spPr>
          <a:xfrm>
            <a:off x="3214800" y="5357880"/>
            <a:ext cx="150012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8:18:4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